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11FEE-CA23-4988-9948-78C967FA9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0A745-1A9B-482C-B243-6576D895F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765BB-AB26-41C4-91C1-AF7A14913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64C24-84C6-41E0-B22E-6FE31DCA8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3C97C-D3F8-4BAB-96A2-C2312E957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26298-A75B-4505-8B49-9DFD03F90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906A2-29E2-4365-83F3-6750FF62A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005DB-29FE-4C4A-9FB1-BA423DBEE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88B5A-820E-4A56-86DB-C171B1D30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85D70-A797-4321-981A-8CC285EDC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11097-E403-4DEC-86E9-3B45A5E6F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D3F5A-F822-4AA3-A556-FF1607FB5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8477C-B99D-409A-A5A9-23406EAD6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8AD72-CACF-4092-A099-05A7C313C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A2BE5-B3EE-4FEC-A78D-409ABBF42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B6446-B110-4C57-BAB7-48D7F5A02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5B363-1E1E-4ACA-91C4-C50C522D3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D404C-9371-40A1-8960-E8CDBFE8A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ACDF7-220A-4DE2-9D4C-44C9C0BAF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A9DF3-5167-44EA-BDFB-9CF5EC495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76B9C-4941-4B22-87BF-99855DE61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C2FEE-ED8F-42C2-B66C-5C119FD57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CC7D7-3078-49DB-8F3F-5AE6A7275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5CA78-FD02-4A50-B0AE-0E730FAED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06B7A-6512-4CC3-994A-0D2CDCE27A59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33852-131A-4A26-A02E-1AB1426AADA2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ei.cs.vt.edu/~history/Tate.VR.html" TargetMode="External"/><Relationship Id="rId2" Type="http://schemas.openxmlformats.org/officeDocument/2006/relationships/hyperlink" Target="http://www-ec.njit.edu/~gdb1498/Portfolio/CIS350TermPaper2.html" TargetMode="External"/><Relationship Id="rId3" Type="http://schemas.openxmlformats.org/officeDocument/2006/relationships/hyperlink" Target="http://www.cs.jhu.edu/~cohen/VW2000/Lectures/History.color.pdf" TargetMode="External"/><Relationship Id="rId4" Type="http://schemas.openxmlformats.org/officeDocument/2006/relationships/hyperlink" Target="http://archive.ncsa.uiuc.edu/Cyberia/VETopLevels/VR.History.html" TargetMode="External"/><Relationship Id="rId5" Type="http://schemas.openxmlformats.org/officeDocument/2006/relationships/hyperlink" Target="http://archive.ncsa.uiuc.edu/Cyberia/VETopLevels/VR.History.html" TargetMode="External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Virtual Reality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142640" y="3885840"/>
            <a:ext cx="716292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hris Constantin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(I figured you were tired of white or blue slides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Sutherland’s Revolution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eilig’s machine = camer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ut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utherland’s idea = CRT’s, graphics accelerators, computer generated imag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Further advanc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aster image generation system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altime wireframe draw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al world input/output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nables interactiv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3D position sensors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VR as we know i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w, we have VR in the same form as toda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mputer systems with reactive capabilities generate simulations of any environmen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Uses of VR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ate 1960’s (the main players in history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ilita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AS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ook Sutherland’s ideas and advanced them to use in flight simulation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at cool headgear returns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Neat things VR is used for toda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hobi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Fear of Heights, Flying, Spiders, Public Speaking, Driving…etc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hysical Therap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duc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rain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ilitary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icrosoft flight sim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cholarl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dic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struc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aw Enforce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ots more…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Future of VR?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uture only bound by technological advan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anotechnology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mplants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. Washington already researching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tina image screen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ervous system implanting (EEG and EMG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nmanned Fligh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ulf War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onclusion and Summar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R came about as an idea from a cinematographer named Morton Heilig in 19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van Sutherland continued when Heilig ran out of money (doh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ilitary liked Sutherland’s idea and helped him develop it. (around 1966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ASA really liked it, poured in tons of money. (late 60’s / early 70’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is VR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Just about any simulated environment a user can actively experien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erminator-esque future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Sourc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IRTUAL REALITY - </a:t>
            </a:r>
            <a:r>
              <a:rPr b="0" lang="en-US" sz="2800" spc="-1" strike="noStrike" u="sng">
                <a:solidFill>
                  <a:srgbClr val="ffcc66"/>
                </a:solidFill>
                <a:uFillTx/>
                <a:latin typeface="Tahoma"/>
                <a:hlinkClick r:id="rId1"/>
              </a:rPr>
              <a:t>http://ei.cs.vt.edu/~history/Tate.VR.htm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volution of Virtual Reality - </a:t>
            </a:r>
            <a:r>
              <a:rPr b="0" lang="en-US" sz="2800" spc="-1" strike="noStrike" u="sng">
                <a:solidFill>
                  <a:srgbClr val="ffcc66"/>
                </a:solidFill>
                <a:uFillTx/>
                <a:latin typeface="Tahoma"/>
                <a:hlinkClick r:id="rId2"/>
              </a:rPr>
              <a:t>http://www-ec.njit.edu/~gdb1498/Portfolio/CIS350TermPaper2.htm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istory of VR - </a:t>
            </a:r>
            <a:r>
              <a:rPr b="0" lang="en-US" sz="2800" spc="-1" strike="noStrike" u="sng">
                <a:solidFill>
                  <a:srgbClr val="ffcc66"/>
                </a:solidFill>
                <a:uFillTx/>
                <a:latin typeface="Tahoma"/>
                <a:hlinkClick r:id="rId3"/>
              </a:rPr>
              <a:t>http://www.cs.jhu.edu/~cohen/VW2000/Lectures/History.color.pdf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irtual Reality – History - </a:t>
            </a:r>
            <a:r>
              <a:rPr b="0" lang="en-US" sz="2800" spc="-1" strike="noStrike" u="sng">
                <a:solidFill>
                  <a:srgbClr val="ffcc66"/>
                </a:solidFill>
                <a:uFillTx/>
                <a:latin typeface="Tahoma"/>
                <a:hlinkClick r:id="rId4"/>
              </a:rPr>
              <a:t>http://</a:t>
            </a:r>
            <a:r>
              <a:rPr b="0" lang="en-US" sz="2800" spc="-1" strike="noStrike" u="sng">
                <a:solidFill>
                  <a:srgbClr val="ffcc66"/>
                </a:solidFill>
                <a:uFillTx/>
                <a:latin typeface="Tahoma"/>
                <a:hlinkClick r:id="rId5"/>
              </a:rPr>
              <a:t>archive.ncsa.uiuc.edu/Cyberia/VETopLevels/VR.History.htm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Overview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is V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echniques of V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istory of V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ses of V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clus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urc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Virtual Reality Techniques in Education and Training: Technological Issues - http://www.agocg.ac.uk/reports/virtual/vrtech/title.ht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imVis Augmented Virtual Reality Techniques - http://www2.dcs.hull.ac.uk/simmod/Topics/virtual_environments.ht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se of Virtual Reality techniques - http://www.dinf.ne.jp/doc/english/Us_Eu/conf/csun_98/csun98_001.ht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VR techniques and illusions - http://www.cs.ucl.ac.uk/staff/A.Steed/vr-intro/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Virtual Reality Rentals, Explaining VR - http://www.rentvr.com/truevr.htm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What is VR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irtual Reality is defined a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mulated environment (computer?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eraction with human sens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active to input from pers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can be V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Just about any simulated environ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9528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etter example of what VR is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just follow along… trust him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Techniques of VR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ypes of V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lass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ersonal mobile sui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ead mounted viso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racking/Non-Track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tion Captur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ully enclosed system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‘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atural’ VR (yeah, you just did that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History of VR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rton Heili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ot in computers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urround sound idea for the eyes…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“…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y use 18% of the viewer’s field of vision in 2D, when we can use 100% in 3D…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867200" y="1600200"/>
            <a:ext cx="360036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$ $ $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ops… No money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eilig’s plans fell through…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nsorama! (early 60’s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952880" y="1371600"/>
            <a:ext cx="32990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Ivan Sutherland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eilig’s ideas fell through, Ivan Sutherland, a student at U. Utah continue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966… Created his version… happy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ASA and military realized the potentia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(more on that later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Hey, Look at me!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371600" y="1295280"/>
            <a:ext cx="6477120" cy="485784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1371600" y="6324480"/>
            <a:ext cx="647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an, Don’t I look cool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6T19:43:19Z</dcterms:created>
  <dc:creator>.</dc:creator>
  <dc:description/>
  <dc:language>en-US</dc:language>
  <cp:lastModifiedBy>eurip</cp:lastModifiedBy>
  <dcterms:modified xsi:type="dcterms:W3CDTF">2003-06-18T16:28:52Z</dcterms:modified>
  <cp:revision>35</cp:revision>
  <dc:subject/>
  <dc:title>Virtual Reality</dc:title>
</cp:coreProperties>
</file>